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6278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24382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24382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6278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6278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6278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51460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66ff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312408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40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33676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Sawl sgwâr sydd yn y patrwm nesa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54160" y="556416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115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Patrymau Rhif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2265480" y="3319560"/>
            <a:ext cx="457200" cy="685800"/>
            <a:chOff x="2265480" y="3319560"/>
            <a:chExt cx="457200" cy="685800"/>
          </a:xfrm>
        </p:grpSpPr>
        <p:sp>
          <p:nvSpPr>
            <p:cNvPr id="119" name=""/>
            <p:cNvSpPr/>
            <p:nvPr/>
          </p:nvSpPr>
          <p:spPr>
            <a:xfrm>
              <a:off x="2265480" y="354816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5480" y="33195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94080" y="35481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65480" y="37767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065400" y="3319560"/>
            <a:ext cx="457200" cy="685800"/>
            <a:chOff x="3065400" y="3319560"/>
            <a:chExt cx="457200" cy="685800"/>
          </a:xfrm>
        </p:grpSpPr>
        <p:sp>
          <p:nvSpPr>
            <p:cNvPr id="124" name=""/>
            <p:cNvSpPr/>
            <p:nvPr/>
          </p:nvSpPr>
          <p:spPr>
            <a:xfrm>
              <a:off x="3065400" y="354816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65400" y="33195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94000" y="35481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65400" y="37767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522600" y="3319560"/>
            <a:ext cx="457200" cy="685800"/>
            <a:chOff x="3522600" y="3319560"/>
            <a:chExt cx="457200" cy="685800"/>
          </a:xfrm>
        </p:grpSpPr>
        <p:sp>
          <p:nvSpPr>
            <p:cNvPr id="129" name=""/>
            <p:cNvSpPr/>
            <p:nvPr/>
          </p:nvSpPr>
          <p:spPr>
            <a:xfrm>
              <a:off x="3522600" y="354816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22600" y="33195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51200" y="35481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22600" y="37767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122800" y="3319560"/>
            <a:ext cx="457200" cy="685800"/>
            <a:chOff x="5122800" y="3319560"/>
            <a:chExt cx="457200" cy="685800"/>
          </a:xfrm>
        </p:grpSpPr>
        <p:sp>
          <p:nvSpPr>
            <p:cNvPr id="134" name=""/>
            <p:cNvSpPr/>
            <p:nvPr/>
          </p:nvSpPr>
          <p:spPr>
            <a:xfrm>
              <a:off x="5122800" y="354816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22800" y="33195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51400" y="35481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22800" y="37767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665600" y="3319560"/>
            <a:ext cx="457200" cy="685800"/>
            <a:chOff x="4665600" y="3319560"/>
            <a:chExt cx="457200" cy="685800"/>
          </a:xfrm>
        </p:grpSpPr>
        <p:sp>
          <p:nvSpPr>
            <p:cNvPr id="139" name=""/>
            <p:cNvSpPr/>
            <p:nvPr/>
          </p:nvSpPr>
          <p:spPr>
            <a:xfrm>
              <a:off x="4665600" y="354816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65600" y="33195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94200" y="35481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65600" y="37767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208400" y="3319560"/>
            <a:ext cx="457200" cy="685800"/>
            <a:chOff x="4208400" y="3319560"/>
            <a:chExt cx="457200" cy="685800"/>
          </a:xfrm>
        </p:grpSpPr>
        <p:sp>
          <p:nvSpPr>
            <p:cNvPr id="144" name=""/>
            <p:cNvSpPr/>
            <p:nvPr/>
          </p:nvSpPr>
          <p:spPr>
            <a:xfrm>
              <a:off x="4208400" y="354816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08400" y="33195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7000" y="35481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08400" y="37767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80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33676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Sawl smotyn sydd yn y patrwm nesa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501336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54160" y="450864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156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Patrymau Rhif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2265480" y="3319560"/>
            <a:ext cx="457200" cy="685800"/>
            <a:chOff x="2265480" y="3319560"/>
            <a:chExt cx="457200" cy="685800"/>
          </a:xfrm>
        </p:grpSpPr>
        <p:sp>
          <p:nvSpPr>
            <p:cNvPr id="160" name=""/>
            <p:cNvSpPr/>
            <p:nvPr/>
          </p:nvSpPr>
          <p:spPr>
            <a:xfrm>
              <a:off x="2265480" y="354816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65480" y="33195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94080" y="35481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65480" y="37767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065400" y="3319560"/>
            <a:ext cx="457200" cy="685800"/>
            <a:chOff x="3065400" y="3319560"/>
            <a:chExt cx="457200" cy="685800"/>
          </a:xfrm>
        </p:grpSpPr>
        <p:sp>
          <p:nvSpPr>
            <p:cNvPr id="165" name=""/>
            <p:cNvSpPr/>
            <p:nvPr/>
          </p:nvSpPr>
          <p:spPr>
            <a:xfrm>
              <a:off x="3065400" y="354816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65400" y="33195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94000" y="35481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65400" y="37767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522600" y="3319560"/>
            <a:ext cx="457200" cy="685800"/>
            <a:chOff x="3522600" y="3319560"/>
            <a:chExt cx="457200" cy="685800"/>
          </a:xfrm>
        </p:grpSpPr>
        <p:sp>
          <p:nvSpPr>
            <p:cNvPr id="170" name=""/>
            <p:cNvSpPr/>
            <p:nvPr/>
          </p:nvSpPr>
          <p:spPr>
            <a:xfrm>
              <a:off x="3522600" y="354816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22600" y="33195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51200" y="35481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22600" y="37767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122800" y="3319560"/>
            <a:ext cx="457200" cy="685800"/>
            <a:chOff x="5122800" y="3319560"/>
            <a:chExt cx="457200" cy="685800"/>
          </a:xfrm>
        </p:grpSpPr>
        <p:sp>
          <p:nvSpPr>
            <p:cNvPr id="175" name=""/>
            <p:cNvSpPr/>
            <p:nvPr/>
          </p:nvSpPr>
          <p:spPr>
            <a:xfrm>
              <a:off x="5122800" y="354816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22800" y="33195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51400" y="35481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22800" y="37767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665600" y="3319560"/>
            <a:ext cx="457200" cy="685800"/>
            <a:chOff x="4665600" y="3319560"/>
            <a:chExt cx="457200" cy="685800"/>
          </a:xfrm>
        </p:grpSpPr>
        <p:sp>
          <p:nvSpPr>
            <p:cNvPr id="180" name=""/>
            <p:cNvSpPr/>
            <p:nvPr/>
          </p:nvSpPr>
          <p:spPr>
            <a:xfrm>
              <a:off x="4665600" y="354816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5600" y="33195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94200" y="35481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65600" y="37767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208400" y="3319560"/>
            <a:ext cx="457200" cy="685800"/>
            <a:chOff x="4208400" y="3319560"/>
            <a:chExt cx="457200" cy="685800"/>
          </a:xfrm>
        </p:grpSpPr>
        <p:sp>
          <p:nvSpPr>
            <p:cNvPr id="185" name=""/>
            <p:cNvSpPr/>
            <p:nvPr/>
          </p:nvSpPr>
          <p:spPr>
            <a:xfrm>
              <a:off x="4208400" y="354816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08400" y="33195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37000" y="35481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08400" y="37767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160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2276640"/>
            <a:ext cx="8893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Sawl sgwâr sydd yn y 5ed patrwm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16000" y="556416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197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Patrymau Rhif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"/>
          <p:cNvGrpSpPr/>
          <p:nvPr/>
        </p:nvGrpSpPr>
        <p:grpSpPr>
          <a:xfrm>
            <a:off x="2700360" y="3494160"/>
            <a:ext cx="457200" cy="914040"/>
            <a:chOff x="2700360" y="3494160"/>
            <a:chExt cx="457200" cy="914040"/>
          </a:xfrm>
        </p:grpSpPr>
        <p:sp>
          <p:nvSpPr>
            <p:cNvPr id="201" name=""/>
            <p:cNvSpPr/>
            <p:nvPr/>
          </p:nvSpPr>
          <p:spPr>
            <a:xfrm>
              <a:off x="2700360" y="3722760"/>
              <a:ext cx="228600" cy="2282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00360" y="34941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00360" y="39513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00360" y="417996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28960" y="372276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162320" y="3543480"/>
            <a:ext cx="457200" cy="914040"/>
            <a:chOff x="4162320" y="3543480"/>
            <a:chExt cx="457200" cy="914040"/>
          </a:xfrm>
        </p:grpSpPr>
        <p:sp>
          <p:nvSpPr>
            <p:cNvPr id="207" name=""/>
            <p:cNvSpPr/>
            <p:nvPr/>
          </p:nvSpPr>
          <p:spPr>
            <a:xfrm>
              <a:off x="4162320" y="3772080"/>
              <a:ext cx="228600" cy="2282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62320" y="3543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62320" y="4000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62320" y="422928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90920" y="377208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619520" y="3543480"/>
            <a:ext cx="457200" cy="914040"/>
            <a:chOff x="4619520" y="3543480"/>
            <a:chExt cx="457200" cy="914040"/>
          </a:xfrm>
        </p:grpSpPr>
        <p:sp>
          <p:nvSpPr>
            <p:cNvPr id="213" name=""/>
            <p:cNvSpPr/>
            <p:nvPr/>
          </p:nvSpPr>
          <p:spPr>
            <a:xfrm>
              <a:off x="4619520" y="3772080"/>
              <a:ext cx="228600" cy="2282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19520" y="3543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19520" y="4000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19520" y="422928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48120" y="377208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792760" y="3543480"/>
            <a:ext cx="457200" cy="914040"/>
            <a:chOff x="5792760" y="3543480"/>
            <a:chExt cx="457200" cy="914040"/>
          </a:xfrm>
        </p:grpSpPr>
        <p:sp>
          <p:nvSpPr>
            <p:cNvPr id="219" name=""/>
            <p:cNvSpPr/>
            <p:nvPr/>
          </p:nvSpPr>
          <p:spPr>
            <a:xfrm>
              <a:off x="5792760" y="3772080"/>
              <a:ext cx="228600" cy="2282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92760" y="3543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92760" y="4000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92760" y="422928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21360" y="377208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249960" y="3543480"/>
            <a:ext cx="457200" cy="914040"/>
            <a:chOff x="6249960" y="3543480"/>
            <a:chExt cx="457200" cy="914040"/>
          </a:xfrm>
        </p:grpSpPr>
        <p:sp>
          <p:nvSpPr>
            <p:cNvPr id="225" name=""/>
            <p:cNvSpPr/>
            <p:nvPr/>
          </p:nvSpPr>
          <p:spPr>
            <a:xfrm>
              <a:off x="6249960" y="3772080"/>
              <a:ext cx="228600" cy="2282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49960" y="3543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49960" y="4000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49960" y="422928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78560" y="377208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707160" y="3543480"/>
            <a:ext cx="457200" cy="914040"/>
            <a:chOff x="6707160" y="3543480"/>
            <a:chExt cx="457200" cy="914040"/>
          </a:xfrm>
        </p:grpSpPr>
        <p:sp>
          <p:nvSpPr>
            <p:cNvPr id="231" name=""/>
            <p:cNvSpPr/>
            <p:nvPr/>
          </p:nvSpPr>
          <p:spPr>
            <a:xfrm>
              <a:off x="6707160" y="3772080"/>
              <a:ext cx="228600" cy="2282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07160" y="3543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07160" y="4000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7160" y="422928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35760" y="377208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320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1916280"/>
            <a:ext cx="8893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Sawl smotyn sydd yn y 10fed patrwm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16000" y="614052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244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Patrymau Rhif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"/>
          <p:cNvGrpSpPr/>
          <p:nvPr/>
        </p:nvGrpSpPr>
        <p:grpSpPr>
          <a:xfrm>
            <a:off x="2700360" y="3494160"/>
            <a:ext cx="457200" cy="914040"/>
            <a:chOff x="2700360" y="3494160"/>
            <a:chExt cx="457200" cy="914040"/>
          </a:xfrm>
        </p:grpSpPr>
        <p:sp>
          <p:nvSpPr>
            <p:cNvPr id="248" name=""/>
            <p:cNvSpPr/>
            <p:nvPr/>
          </p:nvSpPr>
          <p:spPr>
            <a:xfrm>
              <a:off x="2700360" y="3722760"/>
              <a:ext cx="228600" cy="2282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00360" y="34941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00360" y="39513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00360" y="417996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28960" y="372276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162320" y="3543480"/>
            <a:ext cx="457200" cy="914040"/>
            <a:chOff x="4162320" y="3543480"/>
            <a:chExt cx="457200" cy="914040"/>
          </a:xfrm>
        </p:grpSpPr>
        <p:sp>
          <p:nvSpPr>
            <p:cNvPr id="254" name=""/>
            <p:cNvSpPr/>
            <p:nvPr/>
          </p:nvSpPr>
          <p:spPr>
            <a:xfrm>
              <a:off x="4162320" y="3772080"/>
              <a:ext cx="228600" cy="2282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62320" y="3543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62320" y="4000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62320" y="422928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90920" y="377208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619520" y="3543480"/>
            <a:ext cx="457200" cy="914040"/>
            <a:chOff x="4619520" y="3543480"/>
            <a:chExt cx="457200" cy="914040"/>
          </a:xfrm>
        </p:grpSpPr>
        <p:sp>
          <p:nvSpPr>
            <p:cNvPr id="260" name=""/>
            <p:cNvSpPr/>
            <p:nvPr/>
          </p:nvSpPr>
          <p:spPr>
            <a:xfrm>
              <a:off x="4619520" y="3772080"/>
              <a:ext cx="228600" cy="2282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19520" y="3543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19520" y="4000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19520" y="422928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48120" y="377208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792760" y="3543480"/>
            <a:ext cx="457200" cy="914040"/>
            <a:chOff x="5792760" y="3543480"/>
            <a:chExt cx="457200" cy="914040"/>
          </a:xfrm>
        </p:grpSpPr>
        <p:sp>
          <p:nvSpPr>
            <p:cNvPr id="266" name=""/>
            <p:cNvSpPr/>
            <p:nvPr/>
          </p:nvSpPr>
          <p:spPr>
            <a:xfrm>
              <a:off x="5792760" y="3772080"/>
              <a:ext cx="228600" cy="2282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92760" y="3543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92760" y="4000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2760" y="422928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21360" y="377208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249960" y="3543480"/>
            <a:ext cx="457200" cy="914040"/>
            <a:chOff x="6249960" y="3543480"/>
            <a:chExt cx="457200" cy="914040"/>
          </a:xfrm>
        </p:grpSpPr>
        <p:sp>
          <p:nvSpPr>
            <p:cNvPr id="272" name=""/>
            <p:cNvSpPr/>
            <p:nvPr/>
          </p:nvSpPr>
          <p:spPr>
            <a:xfrm>
              <a:off x="6249960" y="3772080"/>
              <a:ext cx="228600" cy="2282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9960" y="3543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49960" y="4000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49960" y="422928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78560" y="377208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707160" y="3543480"/>
            <a:ext cx="457200" cy="914040"/>
            <a:chOff x="6707160" y="3543480"/>
            <a:chExt cx="457200" cy="914040"/>
          </a:xfrm>
        </p:grpSpPr>
        <p:sp>
          <p:nvSpPr>
            <p:cNvPr id="278" name=""/>
            <p:cNvSpPr/>
            <p:nvPr/>
          </p:nvSpPr>
          <p:spPr>
            <a:xfrm>
              <a:off x="6707160" y="3772080"/>
              <a:ext cx="228600" cy="2282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07160" y="3543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07160" y="4000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07160" y="422928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35760" y="3772080"/>
              <a:ext cx="22860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640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2409840"/>
            <a:ext cx="8569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Beth yw rheol y patrwm canlyno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4, 7, 10, 13, …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dio 3 pob 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462744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lluosi gyda 2 pob 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adio 2 yn fwy na’r tro blaeno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54160" y="505944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dio 3 pob t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291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Patrymau Rhif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1250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2438280"/>
            <a:ext cx="82072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5 x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16000" y="558972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6920" y="2276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Beth yw’r rhif sgwâr nesaf yn y patrwm 1, 4, 9, 16, 25, …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79280" y="333360"/>
            <a:ext cx="2448000" cy="2448000"/>
            <a:chOff x="179280" y="333360"/>
            <a:chExt cx="2448000" cy="2448000"/>
          </a:xfrm>
        </p:grpSpPr>
        <p:sp>
          <p:nvSpPr>
            <p:cNvPr id="303" name=""/>
            <p:cNvSpPr txBox="1"/>
            <p:nvPr/>
          </p:nvSpPr>
          <p:spPr>
            <a:xfrm>
              <a:off x="28296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179280" y="1685520"/>
              <a:ext cx="244800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Patrymau Rhif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871920" y="620640"/>
              <a:ext cx="1042200" cy="99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2500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307" name=""/>
          <p:cNvSpPr/>
          <p:nvPr/>
        </p:nvSpPr>
        <p:spPr>
          <a:xfrm>
            <a:off x="324000" y="2438280"/>
            <a:ext cx="85690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2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16000" y="501336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 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–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249228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a rhif sydd DDIM yn rhif cysefin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315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Patrymau Rhif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317" name="" descr=""/>
            <p:cNvPicPr/>
            <p:nvPr/>
          </p:nvPicPr>
          <p:blipFill>
            <a:blip r:embed="rId1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5000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319" name=""/>
          <p:cNvSpPr/>
          <p:nvPr/>
        </p:nvSpPr>
        <p:spPr>
          <a:xfrm>
            <a:off x="250920" y="2438280"/>
            <a:ext cx="82072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16000" y="448452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6920" y="2276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Beth yw ffactor cyffredin mwyaf 15 a 20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327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Patrymau Rhif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10000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2438280"/>
            <a:ext cx="82072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16000" y="609300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2349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Beth yw’r wythfed rhif yn y patrwm 1, 1, 2, 3, 5, 8, …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339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Patrymau Rhif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24000" y="42210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360" y="2743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8360" y="4869000"/>
            <a:ext cx="84582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234936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500" spc="-1" strike="noStrike">
                <a:solidFill>
                  <a:srgbClr val="cc66ff"/>
                </a:solidFill>
                <a:latin typeface="Arial Black"/>
              </a:rPr>
              <a:t>Sawl pwynt sydd ganddoch chi?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-36360" y="524664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cc"/>
                </a:solidFill>
                <a:latin typeface="Basic Sans Light SF"/>
              </a:rPr>
              <a:t>Cyflwynwraig: Mrs Jones!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1979640" y="549360"/>
            <a:ext cx="5089320" cy="5759280"/>
            <a:chOff x="1979640" y="549360"/>
            <a:chExt cx="5089320" cy="5759280"/>
          </a:xfrm>
        </p:grpSpPr>
        <p:sp>
          <p:nvSpPr>
            <p:cNvPr id="42" name=""/>
            <p:cNvSpPr txBox="1"/>
            <p:nvPr/>
          </p:nvSpPr>
          <p:spPr>
            <a:xfrm>
              <a:off x="2195640" y="549360"/>
              <a:ext cx="4427280" cy="5759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1979640" y="3730680"/>
              <a:ext cx="5089320" cy="121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Patrymau Rhif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419640" y="1225440"/>
              <a:ext cx="2166840" cy="234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2857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cc66ff"/>
                </a:solidFill>
                <a:latin typeface="Arial Black"/>
              </a:rPr>
              <a:t>Hyderus?</a:t>
            </a:r>
            <a:endParaRPr b="0" lang="en-US" sz="10600" spc="-1" strike="noStrike">
              <a:solidFill>
                <a:srgbClr val="cc66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109440" y="404280"/>
            <a:ext cx="3960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1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1 pwyn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2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- 2 pwyn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3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5 pwyn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4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10 pwyn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5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20 pwyn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6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40 pwyn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7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80 pwyn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476280"/>
            <a:ext cx="5292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8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160 pwy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9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320 pwy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10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640 pwy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11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1250 pwy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12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2500 pwy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13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5000 pwy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14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10000 pwy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1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2438280"/>
            <a:ext cx="8278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Beth yw’r rhif nesaf yn y patrw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2, 4, 6, 8, 10,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448452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56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Patrymau Rhif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2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438280"/>
            <a:ext cx="8062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505944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 – 21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198900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226224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Dyma lluosrifau 3…….3, 6, 9, 12, 15, 18, ….. Beth yw’r rhif nesaf yn y patrw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69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Patrymau Rhif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5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438280"/>
            <a:ext cx="8062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1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448452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 –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67280" y="198900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226224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Tri o ffactorau 8 yw 1,2 a 8.  Pa ffactor sydd ar go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82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Patrymau Rhif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24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10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276640"/>
            <a:ext cx="871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Ffactorau 20 y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2, 4 , 5, 10 a 20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Beth sydd ar go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2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5589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563580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93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Patrymau Rhif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20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34936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Pa rhif isod sydd yn lluosrif 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1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614052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104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Patrymau Rhif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12:35:07Z</dcterms:created>
  <dc:creator>Alison J. Purvis</dc:creator>
  <dc:description/>
  <dc:language>en-US</dc:language>
  <cp:lastModifiedBy>Betsan Jones</cp:lastModifiedBy>
  <cp:lastPrinted>2000-12-04T09:55:57Z</cp:lastPrinted>
  <dcterms:modified xsi:type="dcterms:W3CDTF">2009-01-19T22:51:46Z</dcterms:modified>
  <cp:revision>69</cp:revision>
  <dc:subject/>
  <dc:title>Who wants to be a Physiology Millionaire?</dc:title>
</cp:coreProperties>
</file>